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4B93-B1EE-4948-B2D6-A1013FB0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1CDD-8758-45CA-A8F0-287B229A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C011-2BFF-4161-95D0-F5F78988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44B-2AA3-47EF-9CE6-4AD4CF89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1FBF-74E0-49FC-B5E8-BEE01418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BAB7-856A-4F22-938D-5C4458DC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E900-FCCE-45A4-BED3-A5CBC9D6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9905-2BD9-4CD6-A363-39B7AFB2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3CDB-30F7-4C35-B89F-09D95B9F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625B-7B6B-4812-B501-1578B8EA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CB43-6F97-4B3F-8BB6-5D0CB0E6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CDF1-1936-4EB3-AF2E-B05054AD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C56E-4109-4A64-9444-25E5C245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02FC-FF63-4073-86AF-20EDCEB5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557C-0C45-4685-9368-BADD86A7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8449-0A82-45F9-AAAD-50FE3CCD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30CD-927E-4F3E-96FA-755BBE69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42AA-1692-4EDF-8BD6-B48CF8D6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186-5579-4506-9A02-2793685D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A230-E33F-4175-BDF3-B88BF4A2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A900-A022-44EA-A9D9-7AF167E7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E9F2-4D96-4C86-A214-44F0EC2B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676D-EAAE-42C4-9A9E-128392C0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DE2-EEA9-4FE9-91F3-BD527B38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BC6B-5082-4543-BBCA-650DF1CF298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4163-FD05-4C9D-8B4D-269987D44F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oft skill for successful career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4560" y="2057040"/>
            <a:ext cx="83055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ft skills with special focus on I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 skill is the ability required and expected from persons for finding a suitable job, its maintenance and pro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2920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rofessional Ethic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ional ethics is the need of the hour in In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person is at the work spot, he must think of his work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must put his heart &amp; soul into the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employee is a organic part of the organization &amp; must strive to contribute his mite to the successful functioning of the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6728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nterpersonal Skill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is a social animal &amp; his success in life largely depends on his relationship &amp; interaction with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must respect the views &amp; sentiments of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we want to differ their views, we must very politely give hints to them without wondering their feel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8160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Time &amp; Stress Management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ize the work &amp; schedule your time according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tent work should be allotted more time &amp; taken up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ning to classical music &amp; practicing Yoga will considerably reduce the physical,emotional &amp; mental stress of an indiv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1004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Leadership communication skil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ers, executives &amp; managers need to be very clear about what they expect from oth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st your sel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ep smil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re &amp; stay toge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1012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learn new thin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 responsibility for your self &amp; your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problems &amp; challe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grateful al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your 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905120"/>
            <a:ext cx="7772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ank you</a:t>
            </a:r>
            <a:endParaRPr b="0" i="1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8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mportance of soft skill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ft skill are very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andle interpersonal re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ake appropriate dec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mmunicate effective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ave good impression and impact to  gain professional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7196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19051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Communication skill as soft skill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skills form th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ner stone of soft sk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human being has to essential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effectively communicate wi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communication is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llmark of one’s educ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837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bility to speak fluently using the right word in the right order is an good  commun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ssage using appropriate vocabulary and syntax form effective commun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3396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ody language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15998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 verbal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 is the index of the mind and it clearly displays the persons 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dy language presents to the audience what we feel &amp; think about the particular m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Nodding one’s 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dy language (e.g, arms crossed, standing, sitting, relax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otion of the sender &amp; receiver (e.g, speaking clearly, enthusiastic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Written communication Skill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evaluates a person’s proficiency indications, spelling grammar etc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rors committed while writing circulars, reports &amp; agenda considerably spoil the image of the wri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visual presentation using graphics, color, balanced design layout- adds so much to written commun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handouts and other written materials for your presen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529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Presentation Skills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2133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ation skills include planning, preparation &amp; delivery of the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ing a formal speech is one form of present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ation skills can be broadly categorized into physical oral, &amp; electro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cess in life depends on presenting ideas in an appropriate mann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at the eyes of audience &amp; speak in a natural, conversational v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priate voice will make the presentation effective and inter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 for feed back from your audience about your presentation &amp; change according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esentation especially, stop occasionally to ask the audience understand what you have sa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eam Work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33160" y="1676160"/>
            <a:ext cx="83055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of either gender, different age groups, qualification, status &amp; skills work as a team with a common objective of accomplishing the t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ccess of any organization largely depends on in the coordinated efforts of its employ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mainly refers to the agreeableness &amp; co-operation among the team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4820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0:27:20Z</dcterms:created>
  <dc:creator/>
  <dc:description/>
  <dc:language>en-US</dc:language>
  <cp:lastModifiedBy>system3</cp:lastModifiedBy>
  <dcterms:modified xsi:type="dcterms:W3CDTF">2009-08-25T08:44:54Z</dcterms:modified>
  <cp:revision>0</cp:revision>
  <dc:subject/>
  <dc:title>PowerPoint Presentation</dc:title>
</cp:coreProperties>
</file>